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applause.wav" ContentType="audio/x-wav"/>
  <Override PartName="/ppt/media/arrow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D0C-94A8-4EC9-AE3D-4672B506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D32-B701-4414-9FBC-92A1E5F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09F-A9DC-41BD-93B3-B205B3F1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3BC-53E3-4193-8992-2822A596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E9B4-A923-497A-AA26-776E1FB7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E55D-E18D-408D-A94E-F973E9D4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7C0-EE42-4E87-A547-AA5317BC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9D90-55BF-4042-879A-ED4654E2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A541-0986-4F12-AF8F-DD48EE44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2677-FF41-42DC-BB2B-F4000249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720B-5098-464D-A862-6AD49F7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C18-E55D-4D77-B3E4-470A2391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892-0300-419C-99BB-358DE13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2483-0CD0-43ED-B8A2-2D3BB8D1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688D-3407-4649-8C23-E957E831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EDD4-D06B-4274-B84A-7E3C4AA4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D524-DECB-4F12-983A-CF98888E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7FF-B59A-4A84-95C9-FA8EC8BD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67B-69AC-43FF-A80A-5BE22EC7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B07-4710-4F44-93A6-F2C98C6F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B74-47CA-4175-B345-64E672C9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02D-1AE3-425C-B68E-DA7CA60A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0AC-B9B7-486A-B1B7-61AA5EB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19A-8793-41A5-B8DC-7D32FBB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053A-8E65-48C7-A32B-304E7ECA19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F0F5-6F48-41BA-94F2-6B848F52AA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google.com/imgres?imgurl=http://thumb1.shutterstock.com.edgesuite.net/display_pic_with_logo/80014/80014,1176118759,1/stock-photo-seaport-vladivostok-spring-floating-of-ice-moored-yachts-war-ships-3040512.jpg&amp;imgrefurl=http://www.shutterstock.com/pic-3040512/stock-photo-seaport-vladivostok-spring-floating-of-ice-moored-yachts-war-ships.html&amp;usg=__BK5kNg4igJFFtXCaKvMkhgIY9hM=&amp;h=358&amp;w=450&amp;sz=56&amp;hl=en&amp;start=10&amp;zoom=0&amp;um=1&amp;itbs=1&amp;tbnid=EDV8k4gRWES94M:&amp;tbnh=101&amp;tbnw=127&amp;prev=/images%3Fq%3Dice%2Bin%2Brussian%2Bseaports%26um%3D1%26hl%3Den%26sa%3DN%26rls%3Dcom.microsoft:en-us:IE-SearchBox%26rlz%3D1I7ADSA_en%26tbs%3Disch:1" TargetMode="External"/><Relationship Id="rId6" Type="http://schemas.openxmlformats.org/officeDocument/2006/relationships/image" Target="../media/image7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2133720" cy="141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Before We Start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vement in Russia gets people in Russia from place to place. It influences trad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ich brings needed goods to the Russian people. However, certain problems lik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s size, climate, and physical features have an impact on its movement,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fore its economy. This presentation covers the problems with Russian transport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ow the Russian people solved the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here are seven seaports in Russia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Kaliningra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St. Petersburg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Okhots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 Murmans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Vladivosto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Astrakhan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Petropavlovsk Kamchatsk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 problem with these ports is that they are spaced far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part from each other. Ships have to travel another 200 mile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o get the most inland part of Russia, where Kaliningrad i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located. Then, shippers have the choice to travel another 50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miles to the port of St. Petersburg. This consumes lots of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ime,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fuel, and therefore money. However, taxes have been cut for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foreign  goods coming into Kaliningrad, saving money, and possibly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ncreasing trad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nother problem happening in these ports is that port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have ice or frost at some point of the year. In fact, there i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permafrost, soil that stays below freezing point, or  zero degree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Celsius, fro two or more years. Permafrost delays mining, an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mportant part of Russia’s economy. Ice in the seaports prevent the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movement of boats, so  a special purpose boat or  ship called a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cebreaker is used to separate the ic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6668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arrow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Railways in Russia account for  2.5 % percent of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Russia’s GDP, or Gross Domestic Product.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Российские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железные дороги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, or Russian Railways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s mostly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state-run. Russian Railways is one of the biggest railway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companies in the world, with 0.95 million employees, a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monopoly within it. In fact, the total length of the line is 85,000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kilometers( 53,130 miles), only surpassed by the United State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railway system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hree rail tracks 350.jpg"/>
          <p:cNvPicPr/>
          <p:nvPr/>
        </p:nvPicPr>
        <p:blipFill>
          <a:blip r:embed="rId2"/>
          <a:stretch/>
        </p:blipFill>
        <p:spPr>
          <a:xfrm>
            <a:off x="5181480" y="1219320"/>
            <a:ext cx="857520" cy="64764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 </cp:lastModifiedBy>
  <dcterms:modified xsi:type="dcterms:W3CDTF">2010-12-15T14:11:30Z</dcterms:modified>
  <cp:revision>15</cp:revision>
  <dc:subject/>
  <dc:title> </dc:title>
</cp:coreProperties>
</file>